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792B-FF3C-4562-A808-5A8C6B8DF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A39-CBAA-4F7E-8870-25B3E26B8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AFE1-E5E5-49F9-94DF-22E07EA46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EBBE-670A-47E4-A924-873180D26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9C75-FE8E-42A3-8321-AB7DA4803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128-1319-4FC2-BFD4-7A9C7931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CAF-3EC9-4011-AE59-587E25F9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F36-4993-4055-857D-7A83C667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752-4412-4064-A803-35F48966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33A-CF5A-444E-A039-2CA5D12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B97B-9CEB-4BE8-B3C6-6D03936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55C-E3CB-460B-8DA8-02FD830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0653-8F06-4477-A1A9-BC43ABF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C7FC-2683-4080-B1F2-9B84D27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472-4D2E-414D-A056-5637E15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643-C00E-4A41-9A9F-0B51F09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6F8-D59F-4B5C-8272-816AB92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6DB-824D-4B5F-AB9E-A0274C3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88D-DDDA-45E7-8629-9814911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D63E-3165-4945-B9E0-57F6BEB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B609-27A2-42B7-9645-8C9DB350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9DE-2A31-4D08-89F9-1774B7D2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44C5-4A9F-45AF-8710-0ABE6B70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E326-97D7-4DD2-BD0C-BD7B6628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DB4E-C51D-4925-8610-2ECC977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1A84-2054-42FF-86D1-B4A9045A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7150-896A-4DCF-BF05-5AF1FD98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488-9969-4586-947F-64CB5FD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8156-DD2F-41E9-A542-A3A27E56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4A27-7394-4D9B-A9B4-5FCAD4F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DAA1-8AD9-4827-A6E9-7917AE8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BA7A-2C9A-40B3-A8EA-A7BA3CF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DCAA-E748-46CD-87CE-184F9E54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E7FD-84F1-4F55-A35A-2A76E235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2541-C948-4A9B-B67D-F12A1D56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F8BF-071B-478C-86D0-C064DCC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839F-2A57-48AE-AF2D-4CC45D3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21DA-070C-4832-9E62-09DDA202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806-9114-4A86-A2C8-14E58590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3502-C218-4F52-8079-F4FCBD3A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3F2F-00A6-4EE8-922B-62D75FAA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E6C3E-6FB0-4831-A624-8427BE24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7B10-C758-485B-9046-541AC96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ED1E-DA65-413E-ACF4-5B4CA83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AA3C-EAA3-4B1C-A9FD-A38DAEE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7573-6564-4685-8C82-B40DB36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A544-7EE2-46C5-ABE5-7AF62675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676D-25F5-4E75-9FBE-580C0F7A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FBEB4-81A0-46ED-852F-8361B71B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E29-689A-45C1-B8DF-248E23F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DC538-EDFF-4A9B-8469-2954F5A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4877-F691-4379-B529-2EC951B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657A-AD2F-4F39-B758-72A499D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1FC2-FDC8-48CF-ACB6-A28244E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E521-A173-4758-A478-834E880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CFE3-F29C-4B4A-A86E-F33955A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F2A0-AF6B-4F7C-B1A5-B82412A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1B3B-87E6-4D4C-BE47-B1973EF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1E19-E728-4EB8-91DE-B79483D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4772-C806-49E0-9DA9-EAD9A9BA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C83-37F3-4626-99BC-4E8E917B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5412-9A33-476E-8DFA-7FAEA03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7A-32F2-4FD2-8022-E2D1499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E5C-30D4-4985-ACAE-114CE13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6C4-6928-48D8-93BE-C73F6B7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C91-E7F4-43F4-909F-53AA553F092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04C4-0B80-4458-9CEF-9E334E5516A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1A0-B7A4-42E7-BBD4-64C160B7ABB6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3909-35C6-4337-A28A-DADFA321A503}" type="slidenum">
              <a:rPr b="0" lang="en-US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995-BEBC-4BA4-AE66-21F372FAA48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721760" y="4572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y: Laura Henders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2787480" y="3048120"/>
            <a:ext cx="3151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extBox 2" descr=""/>
          <p:cNvPicPr/>
          <p:nvPr/>
        </p:nvPicPr>
        <p:blipFill>
          <a:blip r:embed="rId1"/>
          <a:stretch/>
        </p:blipFill>
        <p:spPr>
          <a:xfrm>
            <a:off x="493560" y="858960"/>
            <a:ext cx="8620200" cy="5005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2806560" y="1562040"/>
            <a:ext cx="2540160" cy="9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rcRect l="13045" t="34861" r="46213" b="25861"/>
          <a:stretch/>
        </p:blipFill>
        <p:spPr>
          <a:xfrm>
            <a:off x="5486400" y="4132440"/>
            <a:ext cx="2819520" cy="1353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3381480" y="71928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ight Arrow 4"/>
          <p:cNvSpPr/>
          <p:nvPr/>
        </p:nvSpPr>
        <p:spPr>
          <a:xfrm>
            <a:off x="4183200" y="43434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extBox 1" descr=""/>
          <p:cNvPicPr/>
          <p:nvPr/>
        </p:nvPicPr>
        <p:blipFill>
          <a:blip r:embed="rId1"/>
          <a:stretch/>
        </p:blipFill>
        <p:spPr>
          <a:xfrm>
            <a:off x="79200" y="360360"/>
            <a:ext cx="7223400" cy="1017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505080" y="1981080"/>
            <a:ext cx="2719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XML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ustom Topic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b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osted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te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igaBoo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ata Extrac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rcRect l="8152" t="36510" r="61960" b="10001"/>
          <a:stretch/>
        </p:blipFill>
        <p:spPr>
          <a:xfrm>
            <a:off x="5759280" y="1117440"/>
            <a:ext cx="3292560" cy="3683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rcRect l="8380" t="35253" r="62149" b="24170"/>
          <a:stretch/>
        </p:blipFill>
        <p:spPr>
          <a:xfrm>
            <a:off x="2666880" y="3505320"/>
            <a:ext cx="33274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extBox 1" descr=""/>
          <p:cNvPicPr/>
          <p:nvPr/>
        </p:nvPicPr>
        <p:blipFill>
          <a:blip r:embed="rId1"/>
          <a:stretch/>
        </p:blipFill>
        <p:spPr>
          <a:xfrm>
            <a:off x="85680" y="-92160"/>
            <a:ext cx="2266920" cy="179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3328920" y="1255680"/>
            <a:ext cx="2340000" cy="878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rcRect l="25072" t="25115" r="28768" b="16412"/>
          <a:stretch/>
        </p:blipFill>
        <p:spPr>
          <a:xfrm>
            <a:off x="1685880" y="725400"/>
            <a:ext cx="5627880" cy="4456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304920" y="5600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262626"/>
                </a:solidFill>
                <a:latin typeface="Arial Black"/>
              </a:rPr>
              <a:t>I want to search for Lighthouses in Chatham, M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 Black"/>
              </a:rPr>
              <a:t>First choose “Recreation “ -Travel”- “Specialty Travel</a:t>
            </a:r>
            <a:r>
              <a:rPr b="1" lang="en-US" sz="2000" spc="-1" strike="noStrike">
                <a:solidFill>
                  <a:srgbClr val="262626"/>
                </a:solidFill>
                <a:latin typeface="Franklin Gothic 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Left Arrow 4"/>
          <p:cNvSpPr/>
          <p:nvPr/>
        </p:nvSpPr>
        <p:spPr>
          <a:xfrm>
            <a:off x="6399360" y="429408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rcRect l="1411" t="30959" r="31086" b="21071"/>
          <a:stretch/>
        </p:blipFill>
        <p:spPr>
          <a:xfrm>
            <a:off x="1295280" y="838080"/>
            <a:ext cx="6629400" cy="2944800"/>
          </a:xfrm>
          <a:prstGeom prst="rect">
            <a:avLst/>
          </a:prstGeom>
          <a:ln w="0">
            <a:noFill/>
          </a:ln>
        </p:spPr>
      </p:pic>
      <p:sp>
        <p:nvSpPr>
          <p:cNvPr id="240" name="Left Arrow 1"/>
          <p:cNvSpPr/>
          <p:nvPr/>
        </p:nvSpPr>
        <p:spPr>
          <a:xfrm>
            <a:off x="2679840" y="3560760"/>
            <a:ext cx="1174680" cy="241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332000" y="6172200"/>
            <a:ext cx="71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“Attractions”  then “Historic Building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rcRect l="37503" t="45004" r="39567" b="30784"/>
          <a:stretch/>
        </p:blipFill>
        <p:spPr>
          <a:xfrm>
            <a:off x="5486400" y="4025880"/>
            <a:ext cx="2795760" cy="1844640"/>
          </a:xfrm>
          <a:prstGeom prst="rect">
            <a:avLst/>
          </a:prstGeom>
          <a:ln w="0">
            <a:noFill/>
          </a:ln>
        </p:spPr>
      </p:pic>
      <p:sp>
        <p:nvSpPr>
          <p:cNvPr id="243" name="Right Arrow 3"/>
          <p:cNvSpPr/>
          <p:nvPr/>
        </p:nvSpPr>
        <p:spPr>
          <a:xfrm>
            <a:off x="4413240" y="4245120"/>
            <a:ext cx="977760" cy="2412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rcRect l="29132" t="46091" r="50763" b="25219"/>
          <a:stretch/>
        </p:blipFill>
        <p:spPr>
          <a:xfrm>
            <a:off x="1398600" y="100080"/>
            <a:ext cx="245124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rcRect l="3204" t="45396" r="79895" b="36524"/>
          <a:stretch/>
        </p:blipFill>
        <p:spPr>
          <a:xfrm>
            <a:off x="3008160" y="2133720"/>
            <a:ext cx="2060640" cy="137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rcRect l="3523" t="45566" r="80001" b="43511"/>
          <a:stretch/>
        </p:blipFill>
        <p:spPr>
          <a:xfrm>
            <a:off x="4064040" y="3733920"/>
            <a:ext cx="2009880" cy="741240"/>
          </a:xfrm>
          <a:prstGeom prst="rect">
            <a:avLst/>
          </a:prstGeom>
          <a:ln w="0">
            <a:noFill/>
          </a:ln>
        </p:spPr>
      </p:pic>
      <p:sp>
        <p:nvSpPr>
          <p:cNvPr id="247" name="Left Arrow 1"/>
          <p:cNvSpPr/>
          <p:nvPr/>
        </p:nvSpPr>
        <p:spPr>
          <a:xfrm>
            <a:off x="3467160" y="1181160"/>
            <a:ext cx="1143000" cy="20160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Left Arrow 2"/>
          <p:cNvSpPr/>
          <p:nvPr/>
        </p:nvSpPr>
        <p:spPr>
          <a:xfrm>
            <a:off x="5257800" y="2822400"/>
            <a:ext cx="1204920" cy="20340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Left Arrow 3"/>
          <p:cNvSpPr/>
          <p:nvPr/>
        </p:nvSpPr>
        <p:spPr>
          <a:xfrm>
            <a:off x="6248520" y="4143240"/>
            <a:ext cx="1110960" cy="241560"/>
          </a:xfrm>
          <a:prstGeom prst="leftArrow">
            <a:avLst>
              <a:gd name="adj1" fmla="val 50000"/>
              <a:gd name="adj2" fmla="val 49930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1392120" y="5267160"/>
            <a:ext cx="74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…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ghthouse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rth America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ted State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13200" y="1981080"/>
            <a:ext cx="3876480" cy="957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114800" y="3421080"/>
            <a:ext cx="3494160" cy="1109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2492280" y="457200"/>
            <a:ext cx="226872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1746360" y="5181480"/>
            <a:ext cx="507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achusett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pe Cod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tham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4"/>
          <a:stretch/>
        </p:blipFill>
        <p:spPr>
          <a:xfrm>
            <a:off x="4951440" y="641520"/>
            <a:ext cx="1165320" cy="225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5"/>
          <a:stretch/>
        </p:blipFill>
        <p:spPr>
          <a:xfrm>
            <a:off x="2058840" y="2268360"/>
            <a:ext cx="1006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"/>
          <p:cNvPicPr/>
          <p:nvPr/>
        </p:nvPicPr>
        <p:blipFill>
          <a:blip r:embed="rId6"/>
          <a:stretch/>
        </p:blipFill>
        <p:spPr>
          <a:xfrm>
            <a:off x="3038400" y="3708360"/>
            <a:ext cx="1006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rcRect l="1287" t="22691" r="36133" b="10001"/>
          <a:stretch/>
        </p:blipFill>
        <p:spPr>
          <a:xfrm>
            <a:off x="157320" y="609480"/>
            <a:ext cx="8910360" cy="6210360"/>
          </a:xfrm>
          <a:prstGeom prst="rect">
            <a:avLst/>
          </a:prstGeom>
          <a:ln w="0">
            <a:noFill/>
          </a:ln>
        </p:spPr>
      </p:pic>
      <p:pic>
        <p:nvPicPr>
          <p:cNvPr id="259" name="TextBox 1" descr=""/>
          <p:cNvPicPr/>
          <p:nvPr/>
        </p:nvPicPr>
        <p:blipFill>
          <a:blip r:embed="rId2"/>
          <a:stretch/>
        </p:blipFill>
        <p:spPr>
          <a:xfrm>
            <a:off x="2724120" y="66600"/>
            <a:ext cx="305424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rcRect l="17158" t="21184" r="19089" b="11183"/>
          <a:stretch/>
        </p:blipFill>
        <p:spPr>
          <a:xfrm>
            <a:off x="568440" y="123336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20:13:33Z</dcterms:created>
  <dc:creator>ULJH2</dc:creator>
  <dc:description/>
  <dc:language>en-US</dc:language>
  <cp:lastModifiedBy>ULJH2</cp:lastModifiedBy>
  <dcterms:modified xsi:type="dcterms:W3CDTF">2012-03-31T12:24:42Z</dcterms:modified>
  <cp:revision>12</cp:revision>
  <dc:subject/>
  <dc:title>PowerPoint Presentation</dc:title>
</cp:coreProperties>
</file>